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45D2B-7473-40DC-BC77-A095F6B66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45D13-483E-4AFE-B44E-395D46BAD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B5B25-333F-476D-8155-C7B8C2C28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246DE-3CC3-41E1-BEFF-C181A0956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BEF22-F77C-4C0B-BD62-ED83EA117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77E62-E020-479E-8D01-1CBCFFFC5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AAB75-6C63-48E3-A061-DF67AE304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9F8FD-4FB6-44B8-B88D-7A0069A8B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0A08A-3AA9-430C-BBD0-6611886CD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E1A62-9CD8-4397-8012-EB45C423E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61E63-2F5F-427A-BBD5-DA92CF216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1520C-A900-411B-BDFC-D233797A9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6952-1EFB-4D56-A98C-E784C4388A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İKTİSADİ VE İDARİ BİLİMLER FAKÜLTESİ</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766800"/>
            <a:ext cx="1208160" cy="1208160"/>
          </a:xfrm>
          <a:prstGeom prst="rect">
            <a:avLst/>
          </a:prstGeom>
          <a:ln w="0">
            <a:noFill/>
          </a:ln>
        </p:spPr>
      </p:pic>
      <p:pic>
        <p:nvPicPr>
          <p:cNvPr id="53" name="Picture 1" descr=""/>
          <p:cNvPicPr/>
          <p:nvPr/>
        </p:nvPicPr>
        <p:blipFill>
          <a:blip r:embed="rId3"/>
          <a:stretch/>
        </p:blipFill>
        <p:spPr>
          <a:xfrm>
            <a:off x="7807320" y="766800"/>
            <a:ext cx="1208160" cy="12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0:43:46Z</dcterms:created>
  <dc:creator>Microsoft Office User</dc:creator>
  <dc:description/>
  <dc:language>en-US</dc:language>
  <cp:lastModifiedBy>Microsoft Office User</cp:lastModifiedBy>
  <dcterms:modified xsi:type="dcterms:W3CDTF">2018-05-08T10:45:53Z</dcterms:modified>
  <cp:revision>1</cp:revision>
  <dc:subject/>
  <dc:title>PowerPoint Presentation</dc:title>
</cp:coreProperties>
</file>