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04CB-31E2-4A44-B946-783C08577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0282-2754-40A1-8D48-93E62236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7EBF9-FB7E-47EE-B4E4-A32C5ED0B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371D-9D6D-46BC-B902-ABE963A4B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EC9F3-DCA1-4BDD-A572-0CDA2A69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CB74-8C6D-4661-A99B-77440421D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192E-FCF8-4BF3-9A35-0BE0E2BD4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811D-7620-48C5-8D4B-24275B5F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C98D6-D73C-4D3E-AF7E-CEA0E1F1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DFB1-61C4-4DAA-A251-AD644FB1D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F0A49-0F86-47B2-8B4D-A5109B73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4F78-F884-4B12-8526-E95941EFE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08C6-C3E4-4D90-958B-D1E31B8A8A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58680" y="2058840"/>
            <a:ext cx="9326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İKTİSADİ VE İDARİ BİLİMLER FAKÜLTESİ</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534440" y="554040"/>
            <a:ext cx="1252440" cy="12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0:45:57Z</dcterms:created>
  <dc:creator>Microsoft Office User</dc:creator>
  <dc:description/>
  <dc:language>en-US</dc:language>
  <cp:lastModifiedBy>Microsoft Office User</cp:lastModifiedBy>
  <dcterms:modified xsi:type="dcterms:W3CDTF">2018-05-08T10:50:13Z</dcterms:modified>
  <cp:revision>2</cp:revision>
  <dc:subject/>
  <dc:title>PowerPoint Presentation</dc:title>
</cp:coreProperties>
</file>